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897-798A-418A-AE84-6390BB95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C98-2270-4A0F-A92C-D6727A6A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923-302F-48E2-AA22-916CC4B7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C4B-F2C4-4F8F-80FC-3EEECF2E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BFF4-B49A-4940-8373-20574E28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C1C2-168E-4408-B333-064231D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2BE3-6424-424E-8989-A8CB9202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1838-29C8-4AE5-BBF2-E7692F1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4309-23C0-4E74-A809-11842C9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31BE-3381-4C0E-8A9D-4C98BFD4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EB14-8CFD-4B66-AA5E-49CD457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24C-F307-4506-A04B-2D7BD359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0589-A8B0-41F2-96A8-57C8A1F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4B1B-C284-49AB-A0B5-91D625C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FC36-C4DF-4D7D-9BCD-0BC25556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B15-4406-4A06-AA9C-8B2F3D0D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E48F-CCE7-4DDB-BF51-4CC41070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B007-B2C5-43D3-AB34-ACC643C7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8222-636D-48DF-9544-22BB0F1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DF6C-FA36-4C5B-BED2-54B4DCC3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BEBD-F15D-4716-A1A1-3E36D630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61E1-20EF-4DAE-A1AA-2CE342A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BD5-08F3-4AF4-9526-FB3FDBDF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55D4-A57F-481F-AB86-A0881E23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C56E-B544-499D-8B2B-D3D041D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30B6-8522-4AE2-A997-43AC103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8897-B073-42B7-B11D-A30B6BD4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5F27-3D6F-41F9-8BA2-94DC4509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ADF1-CA55-459D-96AE-2095E3E7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66FD-831B-4B41-8312-413F3AF8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5328-CBC6-4B50-A148-3F2795D8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075C-4D42-4C59-A331-A321BF18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6548-BF38-4826-8406-75FE9658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5D3-6E59-4ABB-8392-0DC3C3F5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0E12-E632-4CCF-BDE4-9C388FD8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A574F-FA16-4D44-8A21-8BFFA126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FAAB-185A-4152-A2C8-A3A6FD80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46FBA-A88A-488C-A667-C99316B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9918-7409-4237-897F-8C081B52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BBFD-29AE-4CD0-AD74-E246D4B6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E9C2-CDB3-4DC7-85CD-E5041D5A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83B6-87DA-4DC0-84EE-695A10AF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76A17-5385-45C4-8A20-46C95C7F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7C20-4A9E-4F3E-94AB-5C6A6AF4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DDB-2E33-44CB-8013-9621E499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F338-9AE8-4EE2-BFE3-73F4C8E3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EA40-D935-44AF-8104-CC156E9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F9C9-6045-4B5F-A43C-CF51581D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7352C-4D75-47DF-A3F9-453FCA98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1349-EDAA-4338-9083-C9F9F296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E908-99C4-4F7E-816E-4A3D2D1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F0145-C201-4A7A-95BE-C4DAEDB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B55A9-D4EB-424C-A5E2-0DFFD26B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74CB-4911-46B9-B3EC-E6AAD910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11EF5-D9C2-4214-A65F-69C19B32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8ED-116B-46A5-A29D-9A79C7A8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5371E-7E29-4CB1-9E18-62F7AAD6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C9B-67AC-4E88-8F48-8BE6AE0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29A-7C95-4D77-8AD6-2C83AC4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685-F326-4F7B-88FE-70B62C9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52E-42DF-4172-A1BA-E63FAAD10A64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28A9-2B53-401D-9CA1-6258CBE7B16A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7DE0-8A25-4075-826D-35E96EC4195C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01D0-6CC1-40E9-BCD0-9D2FA9D07E87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B0D-B1BD-4AB6-BBB2-4661D3C0DA51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6" descr=""/>
          <p:cNvPicPr/>
          <p:nvPr/>
        </p:nvPicPr>
        <p:blipFill>
          <a:blip r:embed="rId1"/>
          <a:stretch/>
        </p:blipFill>
        <p:spPr>
          <a:xfrm>
            <a:off x="835200" y="1200240"/>
            <a:ext cx="7480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914040"/>
            <a:ext cx="8229600" cy="5380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conducted initial walkthroughs of all buildings (with ASBO consultants)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prioritized action plan was set for the high school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air handling system repair, extensive remediation in one vocational classroom, and funding set for replacement of all lighting likely to contain PCB’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comfort survey was sent to all district employees and was well received with a 25% return rate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green cleaning techniques and product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setting up classrooms for better air quality and efficient cleaning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C:\Documents and Settings\jbrough\Local Settings\Temporary Internet Files\Content.IE5\24JG9R5C\MPj04373600000[1].jpg"/>
          <p:cNvPicPr/>
          <p:nvPr/>
        </p:nvPicPr>
        <p:blipFill>
          <a:blip r:embed="rId1"/>
          <a:stretch/>
        </p:blipFill>
        <p:spPr>
          <a:xfrm>
            <a:off x="450720" y="426960"/>
            <a:ext cx="7937640" cy="602316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4" descr=""/>
          <p:cNvPicPr/>
          <p:nvPr/>
        </p:nvPicPr>
        <p:blipFill>
          <a:blip r:embed="rId2"/>
          <a:stretch/>
        </p:blipFill>
        <p:spPr>
          <a:xfrm>
            <a:off x="1865160" y="1225440"/>
            <a:ext cx="46944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-42840" y="1305000"/>
            <a:ext cx="4889520" cy="29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Content Placeholder 4"/>
          <p:cNvGraphicFramePr/>
          <p:nvPr/>
        </p:nvGraphicFramePr>
        <p:xfrm>
          <a:off x="4572000" y="609480"/>
          <a:ext cx="436104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609480"/>
                    <a:ext cx="43610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79000"/>
          </a:bodyPr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Strive to obtain maximum value for its expenditures and will work towards obtaining the “best value “ by balancing short and long term costs, maintenance, life cycle, and environmental cost in purchasing goods and servic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Acknowledges that environmentally responsible purchasing choices will help create and sustain markets for environmentally responsible and recycled content product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Commits to the goal of making environmentally and fiscally responsible purchasing choices that consider life cycle costs, long-term implications, and relative environmental harm of product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Purchasing policies will encourage obtaining products that minimize waste products, have high recycled content, use environmental production methods, demonstrate maximum durability or biodegradability, reparability, energy-efficiency, non-toxicity, and recyclabil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9" name="Title 3" descr=""/>
          <p:cNvPicPr/>
          <p:nvPr/>
        </p:nvPicPr>
        <p:blipFill>
          <a:blip r:embed="rId1"/>
          <a:stretch/>
        </p:blipFill>
        <p:spPr>
          <a:xfrm>
            <a:off x="291960" y="-66600"/>
            <a:ext cx="87915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0" descr=""/>
          <p:cNvPicPr/>
          <p:nvPr/>
        </p:nvPicPr>
        <p:blipFill>
          <a:blip r:embed="rId1"/>
          <a:srcRect l="8247" t="33673" r="47306" b="36024"/>
          <a:stretch/>
        </p:blipFill>
        <p:spPr>
          <a:xfrm>
            <a:off x="1676520" y="457200"/>
            <a:ext cx="541944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1" name="Picture 71" descr=""/>
          <p:cNvPicPr/>
          <p:nvPr/>
        </p:nvPicPr>
        <p:blipFill>
          <a:blip r:embed="rId2"/>
          <a:srcRect l="2498" t="63282" r="41253" b="9375"/>
          <a:stretch/>
        </p:blipFill>
        <p:spPr>
          <a:xfrm>
            <a:off x="1066680" y="3809880"/>
            <a:ext cx="6858000" cy="26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304920" y="390600"/>
            <a:ext cx="8388360" cy="170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Healt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Comfor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Safe &amp; Sec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Energy Effici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Materials Effici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Organized &amp; Clutter Fre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Easy to Maintain &amp; Opera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Optimal Learning Environ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3520" y="114264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Education and Awaren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Superintendent buy-i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IEQ Coordinators – Bill Caruso, Steve Dalzell,</a:t>
            </a:r>
            <a:br>
              <a:rPr sz="2400"/>
            </a:b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Eric Greenfiel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Team assembly begu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Begun planning process and moved into</a:t>
            </a:r>
            <a:br>
              <a:rPr sz="2400"/>
            </a:b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action with upgrades to facilities and </a:t>
            </a:r>
            <a:br>
              <a:rPr sz="2400"/>
            </a:b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training preparations for the new school yea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Demonstrated commit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Great Start Award submitted July 201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31840" y="450720"/>
            <a:ext cx="8308800" cy="1036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mble a district level team and scho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based team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individuals passionate abou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issue who will champion the program in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respective area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Members agree to ACTIVELY particip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throughout IEQ program development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implementation phas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Cross-functional represent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380520"/>
            <a:ext cx="8229600" cy="5913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Resource need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What will  you asses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Building walkthrough procedure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Parameters included in baseline assessmen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Budget / time frame / expected outcome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Assessment plan goals &amp; objective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Prior assessment histor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Communication strateg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Use of technolog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Criteria for prioritization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5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mble Supervisors &amp; Manag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ss IEQ Operating Procedu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uses of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methods of communic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Establish performance baselin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ss staff nee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accountabilities and rewar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Prioritize activiti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837720"/>
            <a:ext cx="8229600" cy="5456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Obtain top level support earl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Vision includes IEQ managemen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Educating school stakeholder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IEQ becomes part of cultur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All staff fully engaged in IEQ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assionate and committed leader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99072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Selecting a good te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Rapid O &amp; M respons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revention is the focu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Respect and Appreci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Communicate, Communicate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31840" y="378000"/>
            <a:ext cx="8388360" cy="1109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14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The District’s Green Team developed and is charged with implementing a Sustainability Policy for the district including energy conservation, recycling, green purchasing and now IAQ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4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began IAQ formal activities by sending representatives of the District’s Green Team to the January 2010 Tools for Schools IAQ Symposium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3:08:16Z</dcterms:created>
  <dc:creator>Janet Brough</dc:creator>
  <dc:description/>
  <cp:keywords/>
  <dc:language>en-US</dc:language>
  <cp:lastModifiedBy>Janet Brough</cp:lastModifiedBy>
  <dcterms:modified xsi:type="dcterms:W3CDTF">2010-09-09T14:18:52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7809990</vt:lpwstr>
  </property>
</Properties>
</file>